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11F4-69B6-4E0E-A912-035A3BDF61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1914-B3D6-40E2-AE6C-B95FD33B696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E6D7-C24B-4802-88AB-2A6858A2E8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 to quiz: 1 – F(1.2 billion)  2-T  3-F(training)  4-F(60%)  5-T  6-F(opposite: 8X more likely for women)  7-T  8-F(16 million)  9-T  10-F(pregnancy and childbir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6195-3266-4B12-B7BB-DEDC497F97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02EE-0B40-4336-ADB2-D5D00C16A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81C7-0221-4492-A1E5-C8214A78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B92-B5A4-4BB3-AAFA-21569683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50A2-BF58-4E5E-9319-5A6C3612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D233-78EE-4631-80B2-D59879C5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D40F-DAF4-4206-9906-3EB0AD4D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F1F-FFD1-43AF-8F01-17E677E8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EA04-17EC-4F6E-B21E-156827AB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AE4-AB17-43D7-BCBD-8F268792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80F7-8D31-4C71-A00F-F2FA9853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742-5DF9-4A0D-954A-9354F578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17D1-9853-43D1-8E09-3F048461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6630-88AE-49E5-8974-22FD0AD9E2F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Quiz about young people in the world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3600"/>
            </a:b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True or false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41264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are 1 billion young people in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51% of the youth labour force is unemployed in Spain in 201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NEET” stands for “Neither in Employment, Education or Travel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re is 50% youth unemployment in Af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44% of 15 – 24 year olds are underweight in Indi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In Sub-Saharan Africa, young men are up to 8 x more likely than young women to be HIV positiv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legal marrying age in Iran is 13 for girls and 15 for boy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6 million adolescent girls become mothers every year around the world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youth literacy rate is 74% in Africa, and 97% in Latin Americ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he biggest killer of girls aged 15 – 19 is diseas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62752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Now check the facts from this infographic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924280"/>
            <a:ext cx="483552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lick on this link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ttp://www.newint.org/features/2012/10/01/n456_infographic.jp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5519880" y="1844640"/>
            <a:ext cx="3311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young people doing to help the world change?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d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3429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se two easier English texts to find 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Young_people_becoming_more_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Giving_up_our_ideals_is_no_longer_an_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youth2.jpg"/>
          <p:cNvPicPr/>
          <p:nvPr/>
        </p:nvPicPr>
        <p:blipFill>
          <a:blip r:embed="rId1"/>
          <a:stretch/>
        </p:blipFill>
        <p:spPr>
          <a:xfrm>
            <a:off x="6084720" y="1989000"/>
            <a:ext cx="222264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6:24:05Z</dcterms:created>
  <dc:creator>Mix</dc:creator>
  <dc:description/>
  <dc:language>en-US</dc:language>
  <cp:lastModifiedBy>Linda Ruas</cp:lastModifiedBy>
  <dcterms:modified xsi:type="dcterms:W3CDTF">2014-05-26T20:29:14Z</dcterms:modified>
  <cp:revision>8</cp:revision>
  <dc:subject/>
  <dc:title>Youth</dc:title>
</cp:coreProperties>
</file>